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7.wmf" ContentType="image/x-wmf"/>
  <Override PartName="/ppt/media/image20.jpeg" ContentType="image/jpeg"/>
  <Override PartName="/ppt/media/image15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3EB-B17E-4ACD-BAC3-D1A785B4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21D-4657-442B-AD6B-36D677D6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4C54-1D2F-43B8-BD5C-4A950166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5AE3-BBE7-45BB-A05C-F60678B1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A9EB-39AA-402A-A7CC-4A5E57F4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C62-F136-449F-9CB7-2B7B3A8D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EFD-1A20-4D97-A90E-39A0C52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6CA2-4972-4E95-939F-16E14E82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FE4-AF0D-494D-884F-BED2890B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9BB-2754-4189-AF96-3F09603E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5A1-23FE-4DBB-8C9B-B6C1304B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B489-8D5C-46EB-9679-30221BC9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976B-EAD6-48CA-BA53-B9E40019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unchstock.com/image/imagezoo/4700001/large/cfr0061.jpg&amp;imgrefurl=http://www.punchstock.com/stock_photography/imagezoo/4700001/image_CFR0061.html&amp;h=428&amp;w=500&amp;sz=27&amp;tbnid=sbkB2twtJJYJ:&amp;tbnh=108&amp;tbnw=126&amp;start=12&amp;prev=/images?q=shouting&amp;hl=en&amp;lr=&amp;c2coff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unchstock.com/image/imagezoo/4700004/large/pgi0099.jpg&amp;imgrefurl=http://www.punchstock.com/stock_photography/imagezoo/4700004/image_PGI0099.html&amp;h=478&amp;w=500&amp;sz=44&amp;tbnid=Uschfccol6UJ:&amp;tbnh=121&amp;tbnw=127&amp;start=39&amp;prev=/images?q=communication&amp;start=20&amp;hl=en&amp;lr=&amp;c2coff=1&amp;sa=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maine.edu/Link/Images/chain.jpg&amp;imgrefurl=http://www.umaine.edu/Link/Links.htm&amp;h=249&amp;w=409&amp;sz=21&amp;tbnid=a2lak-VgNLAJ:&amp;tbnh=73&amp;tbnw=120&amp;start=60&amp;prev=/images?q=chain+link&amp;start=40&amp;hl=en&amp;lr=&amp;c2coff=1&amp;sa=N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udubonmddc.org/images/checkmark_large.gif&amp;imgrefurl=http://www.audubonmddc.org/conservation.htm&amp;h=207&amp;w=243&amp;sz=4&amp;tbnid=ynXNbVo0mqYJ:&amp;tbnh=89&amp;tbnw=104&amp;start=5&amp;prev=/images?q=checkmark&amp;hl=en&amp;lr=&amp;c2coff=1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iramar.sdccd.net/faculty/rmojica/dwright/Project_FITT/media/weights.jpg&amp;imgrefurl=http://www.miramar.sdccd.net/faculty/rmojica/dwright/Project_FITT/index.asp&amp;h=275&amp;w=404&amp;sz=30&amp;tbnid=crWLfomYfOIJ:&amp;tbnh=82&amp;tbnw=120&amp;start=30&amp;prev=/images?q=lifting+weights&amp;start=20&amp;hl=en&amp;lr=&amp;c2coff=1&amp;sa=N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bcit.ca/sidebars/02november/building-blocks.gif&amp;imgrefurl=http://online.bcit.ca/sidebars/02november/inside-out-1.htm&amp;h=210&amp;w=240&amp;sz=10&amp;tbnid=Zg2Vj9Qk_IoJ:&amp;tbnh=91&amp;tbnw=104&amp;start=10&amp;prev=/images?q=building+blocks&amp;hl=en&amp;lr=&amp;c2coff=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online.bcit.ca/sidebars/02november/building-blocks.gif&amp;imgrefurl=http://online.bcit.ca/sidebars/02november/inside-out-1.htm&amp;h=210&amp;w=240&amp;sz=10&amp;tbnid=Zg2Vj9Qk_IoJ:&amp;tbnh=91&amp;tbnw=104&amp;start=10&amp;prev=/images?q=building+blocks&amp;hl=en&amp;lr=&amp;c2coff=1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roton.ucting.udg.mx/galeria/Icons_1/target.png&amp;imgrefurl=http://proton.ucting.udg.mx/galeria/Icons_1/&amp;h=400&amp;w=400&amp;sz=24&amp;tbnid=Afg1TWBqdGAJ:&amp;tbnh=120&amp;tbnw=120&amp;start=4&amp;prev=/images?q=target&amp;hl=en&amp;lr=&amp;c2coff=1&amp;sa=N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apu.edu/imt/images/gc/arrow-big.gif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ityofws.org/hr/assets/images/questions.gif&amp;imgrefurl=http://www.cityofws.org/hr/html/faq.html&amp;h=255&amp;w=255&amp;sz=19&amp;tbnid=9sXix11LqywJ:&amp;tbnh=106&amp;tbnw=106&amp;start=17&amp;prev=/images?q=questions&amp;hl=en&amp;lr=&amp;c2coff=1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perfectworld.org/clipart/gestures/gesture01.gif&amp;imgrefurl=http://212.13.209.34/index.php?cat=3&amp;h=179&amp;w=300&amp;sz=9&amp;tbnid=JimZGd8fHXMJ:&amp;tbnh=66&amp;tbnw=111&amp;start=30&amp;prev=/images?q=gestures&amp;start=20&amp;hl=en&amp;lr=&amp;c2coff=1&amp;sa=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09480" y="457200"/>
            <a:ext cx="76201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CCOUNTABLE TAL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685800" y="52578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assroom posters to help facilitate talk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fr00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079720"/>
            <a:ext cx="34290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1295280" y="45720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ECAPP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46483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estate and make public  a person or group</a:t>
            </a:r>
            <a:r>
              <a:rPr b="1" lang="ja-JP" sz="40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 discussion and understand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9" descr="[People talking]"/>
          <p:cNvPicPr/>
          <p:nvPr/>
        </p:nvPicPr>
        <p:blipFill>
          <a:blip r:embed="rId1"/>
          <a:stretch/>
        </p:blipFill>
        <p:spPr>
          <a:xfrm>
            <a:off x="2057400" y="1905120"/>
            <a:ext cx="45720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228600" y="47242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nsure that everyone is heard and understands what a person says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762120" y="457200"/>
            <a:ext cx="7543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PEN COMMUNIC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9" descr="pgi00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905120"/>
            <a:ext cx="274320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914400" y="457200"/>
            <a:ext cx="7467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INKING CONTRIBU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724280"/>
            <a:ext cx="8915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ke explicit the relationship between a new contribution and what was said befor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" descr="cha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133720"/>
            <a:ext cx="3848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981080" y="1295280"/>
            <a:ext cx="472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 Black"/>
              </a:rPr>
              <a:t>Revoice a person</a:t>
            </a:r>
            <a:r>
              <a:rPr b="1" lang="ja-JP" sz="46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600" spc="-1" strike="noStrike">
                <a:solidFill>
                  <a:srgbClr val="000000"/>
                </a:solidFill>
                <a:latin typeface="Arial Black"/>
              </a:rPr>
              <a:t>s contributions.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 rot="5400000">
            <a:off x="-2305080" y="2914560"/>
            <a:ext cx="6248160" cy="1028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IF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1" name="WordArt 7"/>
          <p:cNvSpPr txBox="1"/>
          <p:nvPr/>
        </p:nvSpPr>
        <p:spPr>
          <a:xfrm rot="5400000">
            <a:off x="4990680" y="2781360"/>
            <a:ext cx="6019920" cy="1218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LARIF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2" name="Picture 11" descr="checkmark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962520"/>
            <a:ext cx="22860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6"/>
          <p:cNvSpPr txBox="1"/>
          <p:nvPr/>
        </p:nvSpPr>
        <p:spPr>
          <a:xfrm>
            <a:off x="380880" y="304920"/>
            <a:ext cx="81536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S FOR ACCURAC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28600" y="2590920"/>
            <a:ext cx="4952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Hold everyone accountable for the accuracy, credibility, and clarity of their contributions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7" descr="weigh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898720"/>
            <a:ext cx="3657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2133720" y="1905120"/>
            <a:ext cx="4647960" cy="41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 Black"/>
              </a:rPr>
              <a:t>Tie a current contribution back to knowledge accumulated by a person or the class at a previous  time.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533520" y="533520"/>
            <a:ext cx="8001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UILD ON PRIOR KNOWLEDG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8" name="Picture 7" descr="building-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01932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building-blo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3124080"/>
            <a:ext cx="18288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609480" y="4343400"/>
            <a:ext cx="80773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Press for evidence and understanding of a person</a:t>
            </a:r>
            <a:r>
              <a:rPr b="1" lang="ja-JP" sz="45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s statements.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6"/>
          <p:cNvSpPr txBox="1"/>
          <p:nvPr/>
        </p:nvSpPr>
        <p:spPr>
          <a:xfrm>
            <a:off x="380880" y="152280"/>
            <a:ext cx="83822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ESS FOR REASO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02" name="Picture 13" descr="Man%2520struggling%2520with%2520weight-lifting"/>
          <p:cNvPicPr/>
          <p:nvPr/>
        </p:nvPicPr>
        <p:blipFill>
          <a:blip r:embed="rId1"/>
          <a:stretch/>
        </p:blipFill>
        <p:spPr>
          <a:xfrm>
            <a:off x="3200400" y="1905120"/>
            <a:ext cx="304812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066680" y="457200"/>
            <a:ext cx="7162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XPAND REASON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4724280"/>
            <a:ext cx="8458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Give extra time and space in the conversation to expand reasoning.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" descr="ae478a"/>
          <p:cNvPicPr/>
          <p:nvPr/>
        </p:nvPicPr>
        <p:blipFill>
          <a:blip r:embed="rId1"/>
          <a:stretch/>
        </p:blipFill>
        <p:spPr>
          <a:xfrm>
            <a:off x="2819520" y="1828800"/>
            <a:ext cx="304776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154944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Object 3" descr=""/>
          <p:cNvPicPr/>
          <p:nvPr/>
        </p:nvPicPr>
        <p:blipFill>
          <a:blip r:embed="rId2"/>
          <a:stretch/>
        </p:blipFill>
        <p:spPr>
          <a:xfrm>
            <a:off x="6400800" y="1905120"/>
            <a:ext cx="209376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Object 4" descr=""/>
          <p:cNvPicPr/>
          <p:nvPr/>
        </p:nvPicPr>
        <p:blipFill>
          <a:blip r:embed="rId3"/>
          <a:stretch/>
        </p:blipFill>
        <p:spPr>
          <a:xfrm>
            <a:off x="3124080" y="380880"/>
            <a:ext cx="2617920" cy="2657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429000" y="44197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7"/>
          <p:cNvSpPr txBox="1"/>
          <p:nvPr/>
        </p:nvSpPr>
        <p:spPr>
          <a:xfrm>
            <a:off x="838080" y="48006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N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3809880" y="3200400"/>
            <a:ext cx="16002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I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6858000" y="47242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H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62120" y="549432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Yourself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327672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With a partn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4771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(Whole clas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495680" cy="399744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457200" y="259092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OLLOW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WordArt 10"/>
          <p:cNvSpPr txBox="1"/>
          <p:nvPr/>
        </p:nvSpPr>
        <p:spPr>
          <a:xfrm>
            <a:off x="6019920" y="2590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PS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533520" y="502920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Why?  Tell me more!   Give an example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648320" y="2362320"/>
            <a:ext cx="3962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efend your reasoning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gainst a different point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f view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9" descr="gavel"/>
          <p:cNvPicPr/>
          <p:nvPr/>
        </p:nvPicPr>
        <p:blipFill>
          <a:blip r:embed="rId1"/>
          <a:stretch/>
        </p:blipFill>
        <p:spPr>
          <a:xfrm>
            <a:off x="1066680" y="2362320"/>
            <a:ext cx="3006720" cy="3886200"/>
          </a:xfrm>
          <a:prstGeom prst="rect">
            <a:avLst/>
          </a:prstGeom>
          <a:ln w="0">
            <a:noFill/>
          </a:ln>
        </p:spPr>
      </p:pic>
      <p:sp>
        <p:nvSpPr>
          <p:cNvPr id="60" name="WordArt 13"/>
          <p:cNvSpPr txBox="1"/>
          <p:nvPr/>
        </p:nvSpPr>
        <p:spPr>
          <a:xfrm>
            <a:off x="1676520" y="457200"/>
            <a:ext cx="5562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FE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2362320" y="1828800"/>
            <a:ext cx="4419360" cy="3086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04920" y="3808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3520" y="510552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How did you arrive at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your answer?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685800" y="2819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in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5" name="WordArt 8"/>
          <p:cNvSpPr txBox="1"/>
          <p:nvPr/>
        </p:nvSpPr>
        <p:spPr>
          <a:xfrm>
            <a:off x="6934320" y="274320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ou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457200" y="533520"/>
            <a:ext cx="8153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PACK YOUR THINKING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ject 2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3857400" cy="3863880"/>
          </a:xfrm>
          <a:prstGeom prst="rect">
            <a:avLst/>
          </a:prstGeom>
          <a:ln w="0">
            <a:noFill/>
          </a:ln>
        </p:spPr>
      </p:pic>
      <p:sp>
        <p:nvSpPr>
          <p:cNvPr id="68" name="WordArt 3"/>
          <p:cNvSpPr txBox="1"/>
          <p:nvPr/>
        </p:nvSpPr>
        <p:spPr>
          <a:xfrm>
            <a:off x="2133720" y="762120"/>
            <a:ext cx="5105160" cy="1752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MARIZ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914400" y="5562720"/>
            <a:ext cx="7543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marize the point of another pers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1066680" y="533520"/>
            <a:ext cx="70106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K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762120" y="4876920"/>
            <a:ext cx="75438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rect attention to the impor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person's contribution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2" name="Picture 12" descr="targ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82880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arrow-bi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2743200"/>
            <a:ext cx="257652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4"/>
          <p:cNvSpPr txBox="1"/>
          <p:nvPr/>
        </p:nvSpPr>
        <p:spPr>
          <a:xfrm>
            <a:off x="1066680" y="533520"/>
            <a:ext cx="67820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ALLENG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304920" y="5029200"/>
            <a:ext cx="861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 Black"/>
              </a:rPr>
              <a:t>Redirect a question back to the person.</a:t>
            </a:r>
            <a:endParaRPr b="1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1" descr="questi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9051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28600" y="46483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ke one</a:t>
            </a:r>
            <a:r>
              <a:rPr b="1" lang="ja-JP" sz="4000" spc="-1" strike="noStrike">
                <a:solidFill>
                  <a:srgbClr val="000000"/>
                </a:solidFill>
                <a:latin typeface="Arial Black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s thinking public and demonstrate expert forms of reasoning through talk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1066680" y="609480"/>
            <a:ext cx="6782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ODEL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79" name="Picture 11" descr="gesture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149560"/>
            <a:ext cx="35816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7:04:27Z</dcterms:created>
  <dc:creator>Staff</dc:creator>
  <dc:description/>
  <dc:language>en-US</dc:language>
  <cp:lastModifiedBy>Jill Bromenschenkel</cp:lastModifiedBy>
  <cp:lastPrinted>2002-08-30T14:58:23Z</cp:lastPrinted>
  <dcterms:modified xsi:type="dcterms:W3CDTF">2012-02-27T15:27:08Z</dcterms:modified>
  <cp:revision>41</cp:revision>
  <dc:subject/>
  <dc:title>No Slide Title</dc:title>
</cp:coreProperties>
</file>